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876-839F-465E-A57A-08361E2C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E03-6EA0-49DE-BB94-9552F010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5BB-A6D4-40CE-9924-48F4E392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63C-7BE0-4722-9566-EB3D0BD2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DFB-220B-46E7-B040-E0564C21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828-BBB7-4680-8773-1232F8D4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C2A-0F0F-472A-9657-B7691863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A6C-2DC1-4D79-9A64-CAC8D7B5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123-2E13-4FBE-A7CF-9CFA7C3C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15E-7BB2-420E-A505-1E50F81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C39-9F71-41B4-9027-1C4693E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533-A95F-4631-9E46-96541353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529-A89F-433E-9B3F-E3AABBD71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040" y="1219320"/>
            <a:ext cx="742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perform all of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 function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are said to be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86600" y="1523880"/>
            <a:ext cx="56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nce living th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known as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524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nted, neither dead or ali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8280" y="990720"/>
            <a:ext cx="595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name for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ing th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800" y="1523880"/>
            <a:ext cx="807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kingdom 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ellular &amp; prokaryoti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1000" y="1295280"/>
            <a:ext cx="721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l to the King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your kingdom 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752480"/>
            <a:ext cx="763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cellular Ameb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ongs to this Kingdo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5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ree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ingdom is ma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f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heophytes &amp; Bryophyt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1371600"/>
            <a:ext cx="74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umungo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us among 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ongs to this kingdo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240" y="1143000"/>
            <a:ext cx="68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phylum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well as Lions, tiger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Bears oh m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523880"/>
            <a:ext cx="807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lum of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thworm and the Leec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09960" y="1523880"/>
            <a:ext cx="707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nimals are onl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ells thick and ou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 s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76680" y="1219320"/>
            <a:ext cx="9367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hylum is armed &amp; read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 suit o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oskeleton armo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56960" y="1219320"/>
            <a:ext cx="709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ub-a-dub-dub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ge Bob’s phylu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2680" y="1600200"/>
            <a:ext cx="635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2 classif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s describe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5238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st develope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modern 2 name system for organism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840" y="1600200"/>
            <a:ext cx="58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the language o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fic nam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6240" y="1219320"/>
            <a:ext cx="725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Genus or specie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one has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letter Capitaliz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160" y="1295280"/>
            <a:ext cx="82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rm that describ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2 name naming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0666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King &amp;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143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nimal phy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143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nus &amp; spe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106668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Lif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unction J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95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ass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52480" y="1143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mong the L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143000"/>
            <a:ext cx="87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ing &amp; processing foo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990720"/>
            <a:ext cx="73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or without oxygen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function produ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f you energ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600" y="762120"/>
            <a:ext cx="82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ntrol &amp; co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n organis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838080"/>
            <a:ext cx="740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rm for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of a stab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environment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914400"/>
            <a:ext cx="586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m total of 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fe func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19320"/>
            <a:ext cx="914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Chord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5760" y="2133720"/>
            <a:ext cx="888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is subphylum of Chord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ncludes all anima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ith a backb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7880" y="297180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ertebr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828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69520" y="640080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 edited by Sac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295280"/>
            <a:ext cx="632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general and the biggest classification group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00520" y="29718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om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7440" y="2971800"/>
            <a:ext cx="40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1800" y="297180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9080" y="297180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5000" y="380880"/>
            <a:ext cx="292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lu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19520" y="29718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52800" y="297180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li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14640" y="297180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95560" y="297180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r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specific classification group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9120" y="297180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19560" y="297180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is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67240" y="29718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24120" y="29718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57400" y="29718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d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86000" y="297180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el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7720" y="2971800"/>
            <a:ext cx="76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nidarians/Coelenter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6960" y="29718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ropo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2320" y="297180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ife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71400" y="2971800"/>
            <a:ext cx="42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9800" y="2133720"/>
            <a:ext cx="55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ience of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ifying thing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9120" y="297180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nae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81360" y="297180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48160" y="297180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560" y="2971800"/>
            <a:ext cx="70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omial nomencl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10040" y="297180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66960" y="29718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81440" y="297180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97180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osta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7880" y="297180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ifying organisms shows similaritie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and this type of relationship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correct or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7 major grou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“taxa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0400" y="1905120"/>
            <a:ext cx="523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ving prefix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2:03:19Z</dcterms:modified>
  <cp:revision>75</cp:revision>
  <dc:subject/>
  <dc:title>Classification Life Functions Jeopardy</dc:title>
</cp:coreProperties>
</file>